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0395B-AF17-4BA8-AF92-2B19CDEF4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D4CFB-B963-4279-805B-E0925E614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4BA22-07EE-4896-A691-990E49805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EF2D8-B45A-471B-AFFD-DEBE751E1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124A0-7FA5-420C-9BB6-7A71F97580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91311-D62C-4E55-A179-7EF385C5A6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E079C-3FDA-40ED-ADBF-E9AB52FEEF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5F4B4-C677-4988-9C1F-B8B5F540BE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37528-8160-4D42-8A4F-E1789B6712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D8804-DF52-41D9-9048-0C224E35CE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7FD0A-D9F9-4F75-B1EC-5589DDDABB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5EB4C-AB79-4312-BCF4-B2F2EEC47D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7FEB7-3BBA-49BC-8C15-51D3226E09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A509E-D443-4B45-99B3-C735587B13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F64F7-87A6-4A12-B239-429707A7A8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D0F45-92F8-444E-A47F-FE462C6126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74B30-FB11-4E06-9011-A3E00453F4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BEF71-8CB7-49C9-8E5B-0520A2F68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D07D0-5E63-4212-A75F-52EF3C188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B96E-2BD8-4E04-8867-B293852B0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AF4C6-3A6E-4E53-9105-D3FFD2F35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E780-D6B8-4D56-9E04-2BFDB1675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6119-3E3E-4C86-9BDF-70E1657BA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BBD18-6FDA-4B96-A2E7-F072B540EE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7610760" y="6458040"/>
            <a:ext cx="14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038480" y="6244920"/>
            <a:ext cx="106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14CE-2A5A-45A5-9369-4074E51E4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7924320" y="650700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4190760" y="624492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56BB-D5A1-4047-AB95-1E61D7B74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9"/>
          <p:cNvSpPr/>
          <p:nvPr/>
        </p:nvSpPr>
        <p:spPr>
          <a:xfrm>
            <a:off x="1371600" y="16765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oi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ing You Suc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and Libraries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228600" y="5791320"/>
            <a:ext cx="8534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hington, DC • Newark • Atlanta • Chicago • Orlando • Los Angeles • Portland • Houst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/Octo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F9E2-754D-4F82-B796-F8539E8C1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dlines/Ext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a service delivery extension occurs, your contract may need to be exten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INT: Set contracts for non-recurring services to expire September 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s must extend the contract AND file a Form 500 to extend the contract expiration date in USAC’s records before an invoice dated after that date can be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E488-CF27-4A34-BB99-6F25A8E52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line Fi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BEAR Forms onl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C issues a Personal Identification Number (PIN) to the authorized person for the first Form 470, 471, or 486 filed on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PIN can be used to certify all online forms, including BEAR Fo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C issues BEAR-specific PINs to individuals who only file BEAR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AR-specific PINs cannot be used to certify online forms other than BEAR Fo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F019-21CD-40F4-944D-C6FE52B6D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line Fi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BEAR Forms onl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your service provider has online access to approve your BEAR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providers can call 1-888-641-8722 (choose the option for “Form 498” from the menu of options) for assistance if they do not have online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providers may have to revise their Forms 498 before they can get online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CAEF-943B-459A-93D6-782B71CC8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ling Correct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7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nd follow directions provide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site gu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fication letters (samples on USAC web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complete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wait until the last minute to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nts should ask service providers what their lead time is for approving B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52B6-848B-4515-B62B-277D0C750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ling Correct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mistakes that lead to rejection (especially for paper filer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s already disbursed in 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orm 471 number / no FRN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471 / FRN mis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471 / SPIN mis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orm 486 filed / No Form 473 f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irst date of service on multiple lines of recurring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licate invoices or invoice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0954-2CD6-4767-ADFE-1F97C4E52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ling Correct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9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ed Entity Number, Form 471 Application Number, and Funding Request Number must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your most recent FCDL for this information (including SPIN changes, FRN split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rcRect l="9375" t="46876" r="50001" b="14845"/>
          <a:stretch/>
        </p:blipFill>
        <p:spPr>
          <a:xfrm>
            <a:off x="3657600" y="2743200"/>
            <a:ext cx="4952880" cy="373392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  <p:pic>
        <p:nvPicPr>
          <p:cNvPr id="129" name="Picture 3" descr=""/>
          <p:cNvPicPr/>
          <p:nvPr/>
        </p:nvPicPr>
        <p:blipFill>
          <a:blip r:embed="rId2"/>
          <a:srcRect l="41253" t="21876" r="18124" b="64065"/>
          <a:stretch/>
        </p:blipFill>
        <p:spPr>
          <a:xfrm>
            <a:off x="3657600" y="1219320"/>
            <a:ext cx="4952880" cy="137160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A1CC-3136-47BE-A674-8AD785BEE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ling Correct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EITHER a Customer Billed Date or a Shipping Date to Customer, not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85800" y="3124080"/>
            <a:ext cx="24382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Billed Date – Recurr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Date – Non-recurr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rcRect l="34771" t="33434" r="11721" b="11356"/>
          <a:stretch/>
        </p:blipFill>
        <p:spPr>
          <a:xfrm>
            <a:off x="3581280" y="2793960"/>
            <a:ext cx="4496040" cy="335268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524C-8F13-4050-819C-850536EA2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ling Correct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Billed Date / Shipping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earliest date of service for the period you are billing (not necessarily July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install or deliver discounted non-recurring services before the Adjusted Service Start Date (check your Form 486 Notification Le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 that the Discount Amount Billed is less than the Total (Undiscounted) 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 approved discount perce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1F03-B96E-4C45-AFE7-EF69DF3A0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ling Correct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filing, verify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invoice is not a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removed any ineligible product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removed any products and services that were not approved on that F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s still remain on the FRN (you are tracking your pay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re filing timely and do not need to first request an invoice deadline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o retain your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7783-E949-490B-A084-64BEDDA21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oice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C reviews invoices for compliance with program rules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pproved products and services are featured on the invoice, including approved service sub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ducts and services are eligible (even if the products and services were approved for fun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voice features the approved discount percentage for the appl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FFA3-0C6F-495A-8571-DA8C8350D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ic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dlines/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ing Invoices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ing Correctly the Firs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ice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FE68-0432-4CC9-8990-0B8BE313C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oice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or email your reviewer with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nformation is provided on requests for information from Invoice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ossible, resubmit your invoice instead of filing an app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understand from USAC’s communication what was incorrect on your invoice, you can just resubmit the invoice with the correct information or within the correct time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0079-0F3E-487F-A7A0-CFC4C18EE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vice Certif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rcRect l="9376" t="19896" r="49219" b="6991"/>
          <a:stretch/>
        </p:blipFill>
        <p:spPr>
          <a:xfrm>
            <a:off x="380880" y="1295280"/>
            <a:ext cx="4038840" cy="51818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472428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requested for all invoices, more likely for Priority 2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d and signed by the applicant to verify delivery, customer payment, or contract terms for up-front or progress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375B-D320-47B3-BC8C-55C0DCF61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vice Certif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 can submit directly to USAC to avoid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cert is sent to service provider with invoice information (email/fax) 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s – copy your service provider if you submit directly to US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E576-C5F0-483E-B52D-DDC03B4EA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BC06-27A7-4996-BDDB-436EA0F48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oicing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you submit an invoice to USA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C must make a commitment for the Funding Request Number (FR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nt must file and successfully certify Form 486, Receipt of Service Confirmation Form, for that F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provider must file Form 473, Service Provider Annual Certification (SPAC) Form for that funding year and that Service Provider Identification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neral, services must have been deli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112B-0997-4778-8179-BC1C514FF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oicing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invoic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472, Billed Entity Applicant Reimbursement (BEAR)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nt pays for services in full and then requests reimbursement from US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474, Service Provider Invoice (SPI)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provider discounts customer (applicant) bills and then requests discount amount from US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C552-95FC-47CA-80ED-0D0EBC925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oicing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R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nt must pay for services in full before submitting B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provider reviews and approves BEAR Form before can be reviewed by US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C approves payment to reimburse the discount amount to the servic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provider must remit funds to applicant no later than 20 days after RECEIPT of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D115-2CC6-4952-B31C-055EFE5A3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oicing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provider must bill applicant (customer) before submitting SP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C reimburses the discount amount to the servic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s can be submitted electronically, online, or on pap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processed invoice sets the invoice mode (BEAR or SPI) for that F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A537-4C7B-47A3-8251-992AA2137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dlines/Ext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ice deadl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ices must be postmarked or received by USAC no later th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 days after the last date to receive service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 days after the date of the Form 486 Notification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ever is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s can be requ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61DC-0DF0-4FC2-96FE-6FADD252A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dlines/Ext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delivery deadl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ring services (no extensions possi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30 of funding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recurring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30 following end of funding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extensions are automatic while others must be requ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s for extensions must be postmarked or received by USAC no later than the last day to receiv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97AF-34AC-46D7-9543-53D891DA7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dlines/Ext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 extensions are processed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Commitment Decision Letter (FCDL), SPIN Change approval, or service substitution approval notification dated on or after March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s must be requested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providers unable to complete implementation for reasons beyond their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providers unwilling to complete installation because USAC withheld payment on a properly completed invoice for at least 6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22:02:20Z</dcterms:created>
  <dc:creator>rreynolds</dc:creator>
  <dc:description/>
  <dc:language>en-US</dc:language>
  <cp:lastModifiedBy>John Noran</cp:lastModifiedBy>
  <dcterms:modified xsi:type="dcterms:W3CDTF">2009-09-17T20:19:17Z</dcterms:modified>
  <cp:revision>804</cp:revision>
  <dc:subject/>
  <dc:title>Slide 1</dc:title>
</cp:coreProperties>
</file>